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D1F-D810-4814-9272-484196CE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B78-43D1-4E03-994E-7430C740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F61-7D2A-4E5A-8946-50406471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40A-CAF9-4C8F-82A0-6F559160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700A-81CE-41C6-A87C-39A90F9D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C212-470D-4345-BDA2-2E60BFB0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F707-0C2A-47FA-AF6E-A2F64A48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732A-B4CD-49A9-897D-D9902376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0384-350A-4CC9-B313-380E1A90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472D-BF55-44AA-9E47-A4BFC8B9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B781-F197-4B45-8451-CAEA34B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01C-03FA-4EB8-BA64-B9CC63C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2FF6-4939-4956-8C1D-F12B8CAB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F8BB-9644-41CE-AF73-45E64B75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3B0A-3469-4437-A05B-40493BD1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0A2B-46DB-4FBC-871F-4FB125CA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0064-78C0-4014-9BBD-841B5EED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FA5-EABE-420A-BD5A-55F3A830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85D-4A9F-4A49-B125-78902262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CA0-1AFD-48CC-B7AB-771D25F7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88C-255F-46B5-9D29-6C6418CE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957-1BBA-4960-BAA7-FF4E127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7B1-7427-4CEB-99CB-AF7511D2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DF0-F133-454A-A3FF-D2BD4824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4B58-51ED-48D7-A28F-7E0732772FDF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76B-A841-4FF0-B5BD-67996F074033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Squad/Support Hardware/Intel ProSet Session 1 of 1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Troubleshooting Internet Connectivity for PC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sk selected participants to share some issues they faced when practicing  connecting to the wireles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scuss how they handled these issu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 (insert answers here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use Intel ProSet to configure my computer’s wireless setting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steps I need to follow to connect to the school’s wireless signa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are going to discuss the necessary steps to successfully reconfigure Internet setting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ometimes school laptop users experience difficulty when they lose their connection to the school’s Internet.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s is an inconvenience to both teachers and studen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Watch me as I show you how to connect to the wireless network.”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1: From the Start Menu, in ‘All Programs’, open the Intel Proset/Wireless program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2: Click on the ‘ADD’ butto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3: Name the profile “your school name and number”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4: Enter your schools SSID cod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5: Intel Proset will indicate that you must enter the Security Settings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6: Change the Encryption Level to ‘64’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7: Enter the 10 digit WEP code for your school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8: Hit ‘Next’. You will see that you are now connected to your wireless network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uide participants through the process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Now it is your turn to try it.” Follow the steps to connect to another VLAN in your building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Tell participants what they will be doing during their work time, and how much time they have: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“Take the next 15 minutes to reconfigure the wireless settings on your laptop to these settings”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Profile Name: IS162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SID: DOETWAC00M001vl60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EP Key:  162D321002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Participants will...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1: Open Intel Prose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2: Create a new profile and name it “My School”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3: Enter the SSID cod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4: Enter the WEP Ke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5: Establish a connection to the Internet.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11-17T17:47:50Z</dcterms:modified>
  <cp:revision>3</cp:revision>
  <dc:subject/>
  <dc:title>Workshop Title</dc:title>
</cp:coreProperties>
</file>